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148-970E-4E12-A7E3-23FC895D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469-29CB-4CD3-B830-5827BC59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4D0-31A6-4F4A-BFC2-EFF9C898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6C7-2BA7-4912-80AA-0C75D1A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138-CF99-41A0-B907-58A12514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1758-264C-4DD7-BF91-02DFE26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5DE-4CBB-40D6-9832-51656B5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C5C-B60E-4144-84BD-BE9B5EAE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D64-73F7-4B2B-A797-02EA5310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A0C-FA3E-43E6-9336-F5DDDF0B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F1A9-BDB8-4DA8-96F5-4033D97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255-42F8-4143-91D0-F1444DBF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50E4-08FF-45D3-BF56-DF487C8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384B-6AD8-4830-B432-00E01D1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BAB-5EE2-445C-BA5A-10FFB4C9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7C0-EFF4-445A-AAFF-DA3C2203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77D-DF38-4EBC-AD5E-54FEB97E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90F7-230A-40E8-A03E-0385039E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2C08-B285-4367-8F25-262D438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1369-AF52-4CDC-9F41-454A2B9E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A18E-A579-4ED4-94FC-F682AFB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AAE7-33D5-4305-B692-84A1BC2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15C-505E-4508-ABBE-21099DB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8EC9-2919-4773-82B3-4A0F1C0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C956-1CFB-40E3-BE01-1D34214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3417-835A-476D-90ED-6E7B091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027B-B072-49C1-B080-B302AE5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10A5-E3CE-4CF3-93D3-74DC4D5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3B71-325C-459A-8DE0-241DEB8B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3353-026E-4839-8801-E61EB85D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D850-6D21-480E-829E-564D4C26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F735-EC36-4066-991A-F474FA8F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1072-19B3-43F4-BF44-B20EFDA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B7B-7073-48C3-8688-B8D3ADD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B5E9-67ED-4FA4-B1A9-A227EB0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AA356-D720-4D17-A143-3D68FA91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934F-D539-43CD-BFC5-91835892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6AF9-9CF0-4196-9242-F8B5B63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2313-5D4D-418D-B820-2B31E94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F56F-A311-48C4-BC68-373039AE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A539-6E8C-4051-B2A4-CD8C480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DD1D-6B97-4F5B-8533-4F68E90B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170A-B3BA-4EBD-AD05-B5B8FD97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08E-4C48-4633-A5E7-50843E1C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005-4744-4644-95A6-E0D2CB6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A2F-A75B-4855-ACBF-F14A10F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2D4-A320-4DFE-9815-2BDB2AB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6DA-F351-442A-BB99-98A26B0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455-8740-4EB0-900D-11662569D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C10-2D9F-4164-A741-C642CF6F9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8792-607F-4F01-B3D2-7C27131C6F7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14C2-1038-47BE-98B0-5848A2292C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 </cp:lastModifiedBy>
  <dcterms:modified xsi:type="dcterms:W3CDTF">2010-12-20T14:33:13Z</dcterms:modified>
  <cp:revision>7</cp:revision>
  <dc:subject/>
  <dc:title>The History of Russia until 1917</dc:title>
</cp:coreProperties>
</file>